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4402"/>
        <c:axId val="66973019"/>
      </c:barChart>
      <c:catAx>
        <c:axId val="4324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3019"/>
        <c:crosses val="autoZero"/>
        <c:auto val="1"/>
        <c:lblAlgn val="ctr"/>
        <c:lblOffset val="100"/>
        <c:noMultiLvlLbl val="0"/>
      </c:catAx>
      <c:valAx>
        <c:axId val="66973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4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E1C-9ADB-4FF2-87EE-4A9E6168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E2C-117B-4B92-84FD-8752BE36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A0B-DF6C-4D8F-8B56-F2CE6375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109-5977-474E-9FFF-6573340F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C12-BC12-4A1A-BE5A-35ADF60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0D9-3A46-4EF1-85AC-FCD8AAA6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4E7-CBFE-405A-A2B6-890CCA7B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88D-AE17-489E-9B93-5FA1DEBD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1C1-2518-4FED-92EE-27C9D87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46A-A0B2-4082-B5A9-D2B570E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764-6FDC-4A4E-AE83-8C22561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F29-358A-4D9E-9575-F80FD5D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0A2AA-E685-4D9F-B39A-A6CF6352C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